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BBA0-A55C-47B4-A55A-DC20B9B7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3343-E035-488B-B409-1756C3F0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CE06-6041-4D3A-995F-BC5C3D87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8A3A-8B8D-4F1C-A613-4BFF39C8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697F-5D87-4F51-A83C-BBC5233B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8988-AC70-4B65-A40B-89BAF956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AB4C-9C5B-41CE-B8C9-E8CF8EF3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CD39-ACB5-4A4B-A7B6-AB7F1338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1EF6-7DB2-48C6-9D83-97863EC3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6C72-B6C7-42A3-A7B4-6A9D5439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52E4-E9D8-4048-820F-08F68CE1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E834-9765-432A-B639-99EB7AB4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1227-8682-42B3-920F-C7BA3350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64F6-2B18-4660-9348-0403F43F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49C3-0243-4C28-ADFC-68963F7C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4FDB-4D37-46E2-A5EA-B1074AFE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22B6-922B-4A78-9BDD-6D8E8D74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945C-E64C-4593-B8AE-3322A8AE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71B1-D475-4B5B-A9A5-D2B9CC3D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0338-79EC-4B86-9624-1930E0A5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DFAE-DB81-4C34-AABB-F811D563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60AB-6EC4-4755-B7F2-598B28DD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6C20-1039-44FD-A281-E7367C50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E0C0-AC1F-466B-AB38-810268D5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150A-06C4-4985-9136-AA16273184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5A63-3C43-4EA7-84F8-8137952DFA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68360" y="404640"/>
            <a:ext cx="5478480" cy="110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Muwashshaha  VI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o vale nada que tenga bue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intencion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si bay ojos tan gach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l disimu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lo que ha de hacerse du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n todo ca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bien celaré mi angust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Sólo me de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i amor un alma mu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triste, apag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¿Viste al que el miedo sobrecog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o al ave en sus temor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835280" y="620640"/>
            <a:ext cx="3024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8000" y="0"/>
            <a:ext cx="4413600" cy="10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l pecho hier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cuando el deseo arrecia.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¿Por qué estas an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no acaban y no ces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¡Ay del coper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que así mi muerte anhela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Vino prepar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del corazón dentro se esconde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me dispara arp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La gloria goza con 'Ali Ab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Ami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onde cumpl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halla el honor real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A mis dese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an alas sus bon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Mis esperanz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se logran gracias a señ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imes New Roman"/>
              </a:rPr>
              <a:t>que son de luz. fulg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69720" y="762120"/>
            <a:ext cx="3466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a su belle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 alba mayor brill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y da su gen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jor perfume al vi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s una estrel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que guía al peregrin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eón que espan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a mala suerte, que a sus  vo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lena de miedo cor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392200" y="1122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20920" y="105084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94000" y="1050840"/>
            <a:ext cx="5740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Se  adorna el mu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tan pronto lo contemp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Honor no exis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Que tanto resplandez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anta, embrujada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Oh gloria- con sus prend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BEN YA SAHHARA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ALBA Q’ESTA KON BEL FOG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KAND BENE BID AMO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VEN OH HECHIC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UN ALBA QUE TIENE TAN HERMOSO FULG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CUANDO VIENE PIDE AM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02:17:25Z</dcterms:created>
  <dc:creator> </dc:creator>
  <dc:description/>
  <dc:language>en-US</dc:language>
  <cp:lastModifiedBy> </cp:lastModifiedBy>
  <dcterms:modified xsi:type="dcterms:W3CDTF">2007-09-29T02:43:49Z</dcterms:modified>
  <cp:revision>5</cp:revision>
  <dc:subject/>
  <dc:title>Diapositiva 1</dc:title>
</cp:coreProperties>
</file>